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9E82-54CA-44E2-A753-5CC1EA016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1141D-9148-4CA7-A626-2405B09A6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3D85-E0A9-4E67-ADA9-64E5E6F62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83AC-6482-4CCF-92E8-21A1FBE54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BCEB-36D0-46C7-9D99-6453BE9CF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8F8A5-735C-4E45-96FA-F7134A4F9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6C1352-BF39-4186-83B2-7E06D680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205B9-B99E-4FAF-A529-6F4543E3C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1C222-DAF1-4B8E-83A5-C69633AC3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E9836-FD3E-4DD1-B90E-16DA968B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382D6-02E2-4F6D-B3EE-C466D2FF8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A8F-FE35-446F-97CF-A6CA7E19A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E1F49-7F74-4853-AA31-51FDEF29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F53E-26BD-4F62-B6C5-383A58CFB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DD440-3A47-421A-BD99-04EBB6B3D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24033-2979-43C6-9521-7D67CF69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EAB8-613E-4DB5-8A93-C60C75F1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9E62-2801-4541-B244-D64874D45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8CF5A-464C-48AC-97AE-82C9E1C6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0782-79BB-4D10-AC9B-5DD76C646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E87A-AF8E-4B15-990D-C25603F3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4A8D-907D-4BE1-9C90-1B28A1D63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9B3C-D148-4BE6-89DB-AF95E52A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7606-CCB7-4338-AD7E-1250E4022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1991E-F9DD-4E22-8259-5199A6E3EEE0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Imagem 6" descr="7542_DGS_powerpoint-0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Open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Open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Open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20FBB-3CF4-47F3-AE11-920B6CF0B4AE}" type="slidenum">
              <a:rPr b="0" lang="pt-PT" sz="1200" spc="-1" strike="noStrike">
                <a:solidFill>
                  <a:srgbClr val="898989"/>
                </a:solidFill>
                <a:latin typeface="Open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Imagem 6" descr="7542_DGS_powerpoint-0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http://higherlogicdownload.s3.amazonaws.com/APIC/eb3f0499-9134-44a4-9b14-f1d9f3915c3f/UploadedImages/IPCRiskAssessment.pdf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4"/>
          <p:cNvSpPr/>
          <p:nvPr/>
        </p:nvSpPr>
        <p:spPr>
          <a:xfrm>
            <a:off x="2120760" y="5210280"/>
            <a:ext cx="638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595959"/>
                </a:solidFill>
                <a:latin typeface="Arial"/>
              </a:rPr>
              <a:t>José Artur Pa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595959"/>
                </a:solidFill>
                <a:latin typeface="Arial"/>
              </a:rPr>
              <a:t>Paulo André Fernan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595959"/>
                </a:solidFill>
                <a:latin typeface="Arial"/>
              </a:rPr>
              <a:t>M.ª Goreti Sil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ângulo 4"/>
          <p:cNvSpPr/>
          <p:nvPr/>
        </p:nvSpPr>
        <p:spPr>
          <a:xfrm>
            <a:off x="1541520" y="341280"/>
            <a:ext cx="6824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000" spc="-1" strike="noStrike">
                <a:solidFill>
                  <a:srgbClr val="002060"/>
                </a:solidFill>
                <a:latin typeface="Arial"/>
              </a:rPr>
              <a:t>Programa de Prevenção  e controlo de Infeção                                        e Resistências aos Antimicrobianos (PPCI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ângulo 3"/>
          <p:cNvSpPr/>
          <p:nvPr/>
        </p:nvSpPr>
        <p:spPr>
          <a:xfrm>
            <a:off x="1541520" y="2306520"/>
            <a:ext cx="7302600" cy="25243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002060"/>
                </a:solidFill>
                <a:latin typeface="Century Gothic"/>
              </a:rPr>
              <a:t>Formação do PPCIRA – maio de 20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400" spc="-1" strike="noStrike">
                <a:solidFill>
                  <a:srgbClr val="4bacc6"/>
                </a:solidFill>
                <a:latin typeface="Century Gothic"/>
              </a:rPr>
              <a:t>Generalidades sobre a Avaliação do Risco de Infe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e46c0a"/>
                </a:solidFill>
                <a:latin typeface="Century Gothic"/>
              </a:rPr>
              <a:t>Modelo da Joint Commission for Accred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Título 1" descr=""/>
          <p:cNvPicPr/>
          <p:nvPr/>
        </p:nvPicPr>
        <p:blipFill>
          <a:blip r:embed="rId1"/>
          <a:stretch/>
        </p:blipFill>
        <p:spPr>
          <a:xfrm>
            <a:off x="1487520" y="2182680"/>
            <a:ext cx="7461360" cy="20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adrão IC.01.04.01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Baseado na identificação de risco, a US define metas e objetivos e prioriza ações, para minimizar a possibilidade de transmissão de infeções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Limitar a exposição desprotegida a 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icrorganismos epidemiologicamente significativos e/ou transmissívei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Limitar a transmissão de infeções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associadas a procediment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Limitar a transmissão de infeções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associadas à utilização de equipamentos médicos, dispositivos e consumos/materiai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Promover a adesão à Norma da higiene das mãos, uso adequado dos EPI, Higiene do Ambiente, etiqueta respiratória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Promover a Campanha  das Precauções Básicas de Controlo de Infeção (PBCI) e as Precauções Adicionais (PBVT)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Monitorizar o cumprimento das PBCI/PBVT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Padrão IC.01.05.01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O Hospital/Unidade de Saúde tem instituído um plano de prevenção e controlo da infeção e resistências aos antimicrobianos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Padrão IC.02.01.01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O Hospital/Unidade de Saúde implementou o seu plano de prevenção e controlo da infeção e de resistências aos antimicrobianos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implement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599840"/>
            <a:ext cx="8229600" cy="525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Atividades que incluem a VE, para minimizar, reduzir e/ou eliminar os riscos de transmissão da infeção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recauções Básicas de Controlo de Infeção (PBCI) 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Precauções Baseadas nas Vias de Transmissão (PBVT)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Investigação de surto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Métodos para armazenagem e remoção dos resíduo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Open Sans"/>
              </a:rPr>
              <a:t>Métodos  de</a:t>
            </a: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 comunicação boca-a-boca, sobre as  responsabilidades na prevenção e controlo da infeções, de: Profissionais, Utentes, Visitantes e Familiares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  <a:p>
            <a:pPr marL="335880" indent="-335880" algn="just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Open Sans"/>
              </a:rPr>
              <a:t>Divulgação de informação de retorno aos Profissionais e aos CA, Chefias Intermédias, ao GCR-PPCIRA e à Direção do PPCIRA, se necessário</a:t>
            </a:r>
            <a:endParaRPr b="0" lang="en-US" sz="1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implement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Reportar a informação sobre infeção, para as US que recebem os utentes ou as que nos enviam os utentes  - articulação entre os vários níveis de cuidados.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Redução dos riscos associados com os materiais e equipamentos clínicos, dispositivos e procedimentos invasivos - limpeza, desinfeção e esterilização, armazenagem e utilização adequados.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Questões relativas ao reprocessamento de materiais de uso único.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implement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Questões de Saúde ocupacional: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Screening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Gestão dos casos de infe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Exposiçõe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Programa de Vacinação (PNV)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implement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Abordagens de Prevenção da Infeção: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Higiene das Mãos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PBCI/PBVT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Eventos sentinela - </a:t>
            </a:r>
            <a:r>
              <a:rPr b="0" i="1" lang="pt-PT" sz="3000" spc="-1" strike="noStrike">
                <a:solidFill>
                  <a:srgbClr val="000000"/>
                </a:solidFill>
                <a:latin typeface="Open Sans"/>
              </a:rPr>
              <a:t>Root Cause Analysis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Abordagem dos microrganismos alerta e problema (MDROs)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INCS associada a CVC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Infeção do Local Cirúrgico-ILC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Infeção respiratória, urinária…..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implement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00"/>
                </a:solidFill>
                <a:latin typeface="Open Sans"/>
              </a:rPr>
              <a:t>Requisitos para o ensino/educação do doente 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700" spc="-1" strike="noStrike">
                <a:solidFill>
                  <a:srgbClr val="000000"/>
                </a:solidFill>
                <a:latin typeface="Open Sans"/>
              </a:rPr>
              <a:t>(e documentação) 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1. PBCI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2. Higiene das mãos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3. Etiqueta Respiratória 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4.Precauções de Contacto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5. Precauções de Gotícula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6. Precauções de Via Aérea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7. Prevenção da ILC, da INCS, da IR…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700" spc="-1" strike="noStrike">
                <a:solidFill>
                  <a:srgbClr val="000000"/>
                </a:solidFill>
                <a:latin typeface="Open Sans"/>
              </a:rPr>
              <a:t>8. Toma cuidadosa de antibióticos (apenas e só quando necessário!)……</a:t>
            </a:r>
            <a:endParaRPr b="0" lang="en-US" sz="27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adrão IC.03.01.01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O Hospital/Unidade de Saúde avalia a eficácia  do seu próprio plano de prevenção e controlo da infeção, anualmente e sempre que houver mudança no padrão dos riscos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Finalidade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1374840" y="2263680"/>
            <a:ext cx="7442280" cy="2482920"/>
          </a:xfrm>
          <a:prstGeom prst="rect">
            <a:avLst/>
          </a:prstGeom>
          <a:ln w="0">
            <a:noFill/>
          </a:ln>
        </p:spPr>
      </p:pic>
      <p:sp>
        <p:nvSpPr>
          <p:cNvPr id="90" name="Rectângulo 4"/>
          <p:cNvSpPr/>
          <p:nvPr/>
        </p:nvSpPr>
        <p:spPr>
          <a:xfrm>
            <a:off x="5715000" y="4148280"/>
            <a:ext cx="3090960" cy="48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ângulo 5"/>
          <p:cNvSpPr/>
          <p:nvPr/>
        </p:nvSpPr>
        <p:spPr>
          <a:xfrm>
            <a:off x="1382760" y="4670280"/>
            <a:ext cx="744516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A Avaliação inclui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4f81bd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riorizar os risc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efinir os objetivos do plano de  CI e RAM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Implementar as atividades do plano de CI e RAM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omunicar com o Gabinete de Segurança do Doent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29040" indent="-32904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Utilizar os resultados da VE e das auditorias, aquando da revisão do plan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Processo de Avaliação de Risco 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laneamento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Formulário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adrõe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ado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Questões corrente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Processo de Avaliação de Risco 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000" spc="-1" strike="noStrike">
                <a:solidFill>
                  <a:srgbClr val="000000"/>
                </a:solidFill>
                <a:latin typeface="Open Sans"/>
              </a:rPr>
              <a:t>Grupo de Trabalho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Convidar: Quais os profissionais que poderão responder melhor aos problemas de prevenção e controlo da infeção?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Solicitar informação previamente  sobre: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Quais são os diagnósticos mais frequentes de admissão dos utentes (GDH)?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Quais são os principais procedimentos invasivos levados a cabo na US?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Quais os microrganismos mais relevantes para a transmissão cruzada?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Outros dados relevantes</a:t>
            </a: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….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3200" spc="-1" strike="noStrike">
                <a:solidFill>
                  <a:srgbClr val="000000"/>
                </a:solidFill>
                <a:latin typeface="Open Sans"/>
              </a:rPr>
              <a:t>Grupo de trabalho para avaliação do risco geográfico e organizacional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PT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2174760"/>
            <a:ext cx="4114800" cy="395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Profissionais do GCL-PPCIRA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EH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Direção Clínica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Direção/Supervisão de Enfermagem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Laboratório de Microbiologia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Open Sans"/>
              </a:rPr>
              <a:t>Farmácia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Cirurgia 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PT" sz="2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644720" y="2174760"/>
            <a:ext cx="4319640" cy="395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Administração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Open Sans"/>
              </a:rPr>
              <a:t>S. Hoteleiros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S. Manutenção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S. Esterilização Centralizada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Open Sans"/>
              </a:rPr>
              <a:t>Departamento da Qualidade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lnSpc>
                <a:spcPct val="15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200" spc="-1" strike="noStrike">
                <a:solidFill>
                  <a:srgbClr val="000000"/>
                </a:solidFill>
                <a:latin typeface="Open Sans"/>
              </a:rPr>
              <a:t>Coordenação da Acreditação </a:t>
            </a:r>
            <a:endParaRPr b="0" lang="en-US" sz="2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000000"/>
                </a:solidFill>
                <a:latin typeface="Open Sans"/>
              </a:rPr>
              <a:t>Grupo de trabalho para avaliação do risco geográfico e organizacional-REUNI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Comissão ou grupo para operacionalizar a avaliação de risco/participação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Tempo para pensar e discutir a priorização dos riscos e os métod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eterminar o Plano de CI e RAM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Organização da Avaliaçã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Fatores a incluir: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obilidade dos utentes entre unidades de saúd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cterísticas geográficas e ambientai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cterísticas da Popula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atores endémicos de infeção 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cterísticas dos cuidados prestado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Serviços prestad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Organização da Avaliaçã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escrição dos fatores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cterísticas que aumentam o risco de infe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cterísticas que diminuem o risco de infe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Incluir os dados obtidos através da avaliação de risc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Componentes do formulário de avaliação do risco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robabilidade de ocorrência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Impacto/severidad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Saúd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Finança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Lei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Regulamentação interna, Acreditação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Sistemas correntes/comun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Score</a:t>
            </a: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 do Risc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Deriva da multiplicação de 3 componentes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onsenso do Grupo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vs.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édia matemática ou somatóri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Priorização dos risco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Ordenar os riscos por </a:t>
            </a: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Scores (ranking)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ara Organização pode ter de definir prioridades diferentes, em função das suas realidades e necessidades específica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330720" y="185760"/>
            <a:ext cx="5519520" cy="5964120"/>
          </a:xfrm>
          <a:prstGeom prst="rect">
            <a:avLst/>
          </a:prstGeom>
          <a:ln w="0">
            <a:noFill/>
          </a:ln>
        </p:spPr>
      </p:pic>
      <p:sp>
        <p:nvSpPr>
          <p:cNvPr id="93" name="Rectângulo 2"/>
          <p:cNvSpPr/>
          <p:nvPr/>
        </p:nvSpPr>
        <p:spPr>
          <a:xfrm>
            <a:off x="185760" y="152280"/>
            <a:ext cx="3373560" cy="5977080"/>
          </a:xfrm>
          <a:prstGeom prst="rect">
            <a:avLst/>
          </a:prstGeom>
          <a:solidFill>
            <a:srgbClr val="31859c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Localização geográfica </a:t>
            </a:r>
            <a:r>
              <a:rPr b="0" lang="pt-PT" sz="1800" spc="-1" strike="noStrike">
                <a:solidFill>
                  <a:srgbClr val="ffffff"/>
                </a:solidFill>
                <a:latin typeface="Open Sans"/>
              </a:rPr>
              <a:t>e </a:t>
            </a: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ambiente organiza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Serviços que pre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Características da população serv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Result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Open Sans"/>
              </a:rPr>
              <a:t>Identificar riscos de infeção relacionados com os utentes, profissionais, voluntários, estudantes, visitantes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800" spc="-1" strike="noStrike">
                <a:solidFill>
                  <a:srgbClr val="ffffff"/>
                </a:solidFill>
                <a:latin typeface="Open Sans"/>
              </a:rPr>
              <a:t>Focar nos serviços prestado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ffffff"/>
                </a:solidFill>
                <a:latin typeface="Open Sans"/>
              </a:rPr>
              <a:t>Cada Unidade de Saúde tem particularidades que merecem atenção diferente, conforme a sua tipologia, valências clínicas/outros fa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1306440" y="6346800"/>
            <a:ext cx="4822920" cy="336600"/>
          </a:xfrm>
          <a:prstGeom prst="rect">
            <a:avLst/>
          </a:prstGeom>
          <a:ln w="0">
            <a:noFill/>
          </a:ln>
        </p:spPr>
      </p:pic>
      <p:sp>
        <p:nvSpPr>
          <p:cNvPr id="95" name="Rectângulo 5"/>
          <p:cNvSpPr/>
          <p:nvPr/>
        </p:nvSpPr>
        <p:spPr>
          <a:xfrm>
            <a:off x="6095880" y="6291360"/>
            <a:ext cx="2438640" cy="360360"/>
          </a:xfrm>
          <a:prstGeom prst="rect">
            <a:avLst/>
          </a:prstGeom>
          <a:solidFill>
            <a:srgbClr val="3185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ffffff"/>
                </a:solidFill>
                <a:latin typeface="Open Sans"/>
              </a:rPr>
              <a:t>Barbara Sou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Exercício de avaliação do risc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iscutir cada risco potencial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Contribuir para o consenso do grupo, na atribuição do número, para cada componente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Multiplicar o n.º de componentes, para calcular os </a:t>
            </a: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scores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de risc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Ocasionalmente, comparar os </a:t>
            </a: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scores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 de risco, para validação pelo Grupo de trabalh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Plano de prevenção e controlo da infeção e RAM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Desenveolver o plano para cada estratégia, com pessoas, recursos, calendarização….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Recolher apoio dos membros do GCL-PPCIRA e apoio administrativo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Desenvolver parcerias com os p</a:t>
            </a:r>
            <a:r>
              <a:rPr b="0" i="1" lang="en-US" sz="3000" spc="-1" strike="noStrike">
                <a:solidFill>
                  <a:srgbClr val="000000"/>
                </a:solidFill>
                <a:latin typeface="Open Sans"/>
              </a:rPr>
              <a:t>rofissionais-chave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Não tente solucionar muita coisa de uma só vez!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Definir objetivos, metas, medidas de monitorização e metodologia de a</a:t>
            </a: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valiação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O PCI – Relatório de progress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Organizar/Ordenar as prioridades (</a:t>
            </a:r>
            <a:r>
              <a:rPr b="0" i="1" lang="pt-PT" sz="3000" spc="-1" strike="noStrike">
                <a:solidFill>
                  <a:srgbClr val="000000"/>
                </a:solidFill>
                <a:latin typeface="Open Sans"/>
              </a:rPr>
              <a:t>Rankink)</a:t>
            </a: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: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Metas (afirmaçãoes genéricas)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Objetivos (apoios específicos e mensuráveis para cada meta)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Estratégias (fases/etapas para consecussão de cada um dos objetivos/metas) 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Avaliação (como se pretende medir o nosso sucesso?)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39480" indent="-3394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Open Sans"/>
              </a:rPr>
              <a:t>Análise de Progresso (situação atual e próximas etapas)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Exercício de grupo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Para os 3 Riscos prioritários - “</a:t>
            </a:r>
            <a:r>
              <a:rPr b="0" i="1" lang="en-US" sz="3200" spc="-1" strike="noStrike">
                <a:solidFill>
                  <a:srgbClr val="000000"/>
                </a:solidFill>
                <a:latin typeface="Open Sans"/>
              </a:rPr>
              <a:t>Top Three Risks” </a:t>
            </a: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identificados, desenvolver: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eta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Estratégias de implementação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Métodos de avaliação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Avaliação de Risco /Planeamento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Documentação dos processo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Envolvimento do Grupo/ suporte/apoio organizacional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Processos/Modos ou vias de comunicação dos resultados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Acompanhamento dos resultado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rogramação das ações de promoção das boas práticas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2" descr=""/>
          <p:cNvPicPr/>
          <p:nvPr/>
        </p:nvPicPr>
        <p:blipFill>
          <a:blip r:embed="rId1"/>
          <a:stretch/>
        </p:blipFill>
        <p:spPr>
          <a:xfrm>
            <a:off x="176364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Importante: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Completar a formação, com as apresentações em </a:t>
            </a:r>
            <a:r>
              <a:rPr b="0" i="1" lang="pt-PT" sz="3200" spc="-1" strike="noStrike">
                <a:solidFill>
                  <a:srgbClr val="000000"/>
                </a:solidFill>
                <a:latin typeface="Open Sans"/>
              </a:rPr>
              <a:t>P. Point</a:t>
            </a: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e46c0a"/>
                </a:solidFill>
                <a:latin typeface="Open Sans"/>
              </a:rPr>
              <a:t>Avaliação do Risco Geográfico e Organizacional do control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98480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2800" spc="-1" strike="noStrike">
                <a:solidFill>
                  <a:srgbClr val="984807"/>
                </a:solidFill>
                <a:latin typeface="Open Sans"/>
              </a:rPr>
              <a:t>Avaliação do Risco Individual em Controlo de Infeção</a:t>
            </a:r>
            <a:endParaRPr b="0" lang="en-US" sz="28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000000"/>
                </a:solidFill>
                <a:latin typeface="Open Sans"/>
              </a:rPr>
              <a:t>Obrigada pela Atenção!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65" name="AutoShape 4"/>
          <p:cNvSpPr/>
          <p:nvPr/>
        </p:nvSpPr>
        <p:spPr>
          <a:xfrm>
            <a:off x="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ângulo 6"/>
          <p:cNvSpPr/>
          <p:nvPr/>
        </p:nvSpPr>
        <p:spPr>
          <a:xfrm>
            <a:off x="250920" y="6093000"/>
            <a:ext cx="8785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Fonte: Risk Assessment for Infection Prevention and Control Programs. Acessível online em: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higherlogicdownload.s3.amazonaws.com/APIC/eb3f0499-9134-44a4-9b14-f1d9f3915c3f/UploadedImages/IPCRiskAssessment.pd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6" descr=""/>
          <p:cNvPicPr/>
          <p:nvPr/>
        </p:nvPicPr>
        <p:blipFill>
          <a:blip r:embed="rId2"/>
          <a:stretch/>
        </p:blipFill>
        <p:spPr>
          <a:xfrm>
            <a:off x="1763640" y="2060640"/>
            <a:ext cx="1820880" cy="1608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3"/>
          <a:stretch/>
        </p:blipFill>
        <p:spPr>
          <a:xfrm>
            <a:off x="5076720" y="1989000"/>
            <a:ext cx="2159280" cy="14115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3957480" cy="1660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"/>
          <p:cNvPicPr/>
          <p:nvPr/>
        </p:nvPicPr>
        <p:blipFill>
          <a:blip r:embed="rId5"/>
          <a:stretch/>
        </p:blipFill>
        <p:spPr>
          <a:xfrm>
            <a:off x="5076720" y="4005360"/>
            <a:ext cx="188280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Título 1" descr=""/>
          <p:cNvPicPr/>
          <p:nvPr/>
        </p:nvPicPr>
        <p:blipFill>
          <a:blip r:embed="rId1"/>
          <a:stretch/>
        </p:blipFill>
        <p:spPr>
          <a:xfrm>
            <a:off x="450720" y="-79200"/>
            <a:ext cx="8296560" cy="11588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Discutir as estratégias para assegurar a avaliação de risco com sucesso;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Desenvolver um plano de avaliação de risco adaptado aos resultados;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Criar um relatório de progresso, salientando a adesão e progresso do plano de ação de avaliação de risco da Unidade de Saúde (US)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As Normas de CI devem integrar a avaliação de risco nos objetivos de prevenção de infeção,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Implementar um Processo formal, bem estruturado e bem concebido, com uma abordagem cuidadosa,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 </a:t>
            </a: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ara analisar as atividades de prevenção de infeção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600200"/>
            <a:ext cx="8362800" cy="478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Análise reflexiva sobre o que pode</a:t>
            </a:r>
            <a:br>
              <a:rPr sz="3000"/>
            </a:br>
            <a:r>
              <a:rPr b="0" lang="pt-PT" sz="3000" spc="-1" strike="noStrike">
                <a:solidFill>
                  <a:srgbClr val="000000"/>
                </a:solidFill>
                <a:latin typeface="Open Sans"/>
              </a:rPr>
              <a:t>causa danos aos utentes, funcionários, familiares e visitantes, ou das instalações.</a:t>
            </a:r>
            <a:endParaRPr b="0" lang="en-US" sz="30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000000"/>
                </a:solidFill>
                <a:latin typeface="Open Sans"/>
              </a:rPr>
              <a:t>As questões importantes a considerar na avaliação do risco de infeção da US, são:</a:t>
            </a:r>
            <a:endParaRPr b="0" lang="en-US" sz="24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Open Sans"/>
              </a:rPr>
              <a:t>se  um risco conhecido ou potencial é provável de   ocorrer?</a:t>
            </a:r>
            <a:endParaRPr b="0" lang="en-US" sz="26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Open Sans"/>
              </a:rPr>
              <a:t>se ocorrer,  vai ser significativo?</a:t>
            </a:r>
            <a:endParaRPr b="0" lang="en-US" sz="2600" spc="-1" strike="noStrike">
              <a:solidFill>
                <a:srgbClr val="000000"/>
              </a:solidFill>
              <a:latin typeface="Open Sans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600" spc="-1" strike="noStrike">
                <a:solidFill>
                  <a:srgbClr val="000000"/>
                </a:solidFill>
                <a:latin typeface="Open Sans"/>
              </a:rPr>
              <a:t>se a organização está suficientemente preparada para</a:t>
            </a:r>
            <a:br>
              <a:rPr sz="2600"/>
            </a:br>
            <a:r>
              <a:rPr b="0" lang="pt-PT" sz="2600" spc="-1" strike="noStrike">
                <a:solidFill>
                  <a:srgbClr val="000000"/>
                </a:solidFill>
                <a:latin typeface="Open Sans"/>
              </a:rPr>
              <a:t>lidar com isso de forma que os efeitos negativos sejam eliminados ou minimizados?</a:t>
            </a:r>
            <a:endParaRPr b="0" lang="en-US" sz="26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PT" sz="4400" spc="-1" strike="noStrike">
                <a:solidFill>
                  <a:srgbClr val="000000"/>
                </a:solidFill>
                <a:latin typeface="Open Sans"/>
              </a:rPr>
              <a:t>Joint Commission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362800" cy="478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adrão IC.01.03.01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O hospital identifica os riscos de aquisição e transmissão da infeção / colonização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000000"/>
                </a:solidFill>
                <a:latin typeface="Open Sans"/>
              </a:rPr>
              <a:t>Os riscos são identificados com base:</a:t>
            </a:r>
            <a:endParaRPr b="0" lang="en-US" sz="40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Localização geográfica, Comunidde e população servida.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Os Cuidados, Tratamentos, Procedimentos ou Serviços prestados. 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Open Sans"/>
              </a:rPr>
              <a:t>A análise das atividades de vigilância epidemiológica e outros dados de infeção da US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000000"/>
                </a:solidFill>
                <a:latin typeface="Open Sans"/>
              </a:rPr>
              <a:t>Premissas</a:t>
            </a:r>
            <a:endParaRPr b="0" lang="en-US" sz="4400" spc="-1" strike="noStrike">
              <a:solidFill>
                <a:srgbClr val="000000"/>
              </a:solidFill>
              <a:latin typeface="Open Sans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Revisão e identificação de riscos pelo menos anualmente e se há alterações significativas;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Requer o envolvimento do GCL-PPCIRA, a equipa médica e de enfermagem e liderança</a:t>
            </a:r>
            <a:br>
              <a:rPr sz="3200"/>
            </a:br>
            <a:r>
              <a:rPr b="0" lang="pt-PT" sz="3200" spc="-1" strike="noStrike">
                <a:solidFill>
                  <a:srgbClr val="000000"/>
                </a:solidFill>
                <a:latin typeface="Open Sans"/>
              </a:rPr>
              <a:t>Priorizar e documentar as ações.</a:t>
            </a:r>
            <a:endParaRPr b="0" lang="en-US" sz="3200" spc="-1" strike="noStrike">
              <a:solidFill>
                <a:srgbClr val="000000"/>
              </a:solidFill>
              <a:latin typeface="Open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18T16:07:29Z</dcterms:created>
  <dc:creator>Alexandra Figueiredo</dc:creator>
  <dc:description/>
  <dc:language>en-US</dc:language>
  <cp:lastModifiedBy>mgsilva</cp:lastModifiedBy>
  <dcterms:modified xsi:type="dcterms:W3CDTF">2015-05-14T09:12:49Z</dcterms:modified>
  <cp:revision>170</cp:revision>
  <dc:subject/>
  <dc:title>Diapositivo 1</dc:title>
</cp:coreProperties>
</file>